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5B61-8AE4-49B1-B7AE-ED6EDB23F5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B6A3-E581-4063-B36A-7C25064A23C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10B9C-751E-4F52-9336-AE9458572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41E3B-D2CD-486A-8EAA-9158614DF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1F338-9AA1-4108-B5D4-98B358625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75B97-ABB2-4185-AA85-B841E87D8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01C46-9DE0-400C-A526-60BC7E2FE1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F83B8-83B9-49CA-A9A3-D89404312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8D42F-9020-49C7-B5AB-731217520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66F41-CD58-4F7B-87EC-29A2AF757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43A54-C720-4BE1-8C3F-A48CD5E3F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596AD-CC08-4AE7-BEA8-72ACBE973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3FCD4-6D19-458B-8CC7-D4C88143F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DBA40-52E0-40B9-9873-C529756BC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11F6F-AAE2-41BF-A8D1-923985A2C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B3ED9-6E51-4345-831C-0C112D6E1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2D787-23A0-4AD8-BC65-5BF676681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DF179-E7A8-436E-9B15-D20F823CB0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5DA00-500D-4CD1-B462-616194F00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1A1596-E74E-49D2-BF71-36EB7F1816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1556F1-D963-41F4-AF0E-C359596A32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45412D-9CEE-46AE-933C-AB259F1A44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45C073-D7CB-44CD-A66B-67D12022B8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1D68E7-140E-4675-9973-357E8F9F93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514CA-4919-41E2-B85A-D7A15BEBA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631F50-CFCB-403F-AD46-EBDC332317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79ABE-C32D-4736-A6F7-EDF5D2362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37F372-30ED-40E2-8B68-C3D53B0795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07042-857E-4DBC-BF1C-24DC8C832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977206-8111-46CC-8F43-5D4FBC08EA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C1A908-69CD-49C1-BE09-3D16447DFF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D2140E-8A67-4D0F-A3CE-1012DAB5B9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7886D1-FB33-4D03-9A48-47EC83FF67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B59414-81A4-44F4-A7D0-8742B35CB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0CD5C2-10C9-4B8F-B675-397DB0B514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16BEF-2835-47BF-B54D-FC1CF56A0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E91147-19F9-4540-9CD0-423D2B2A51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A4267D-2FDF-4776-B927-8BA7F27F6D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19858D-CD11-41FA-A6C1-672A98069A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33B63E-A55A-414D-B25E-C46606E674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B5B7F5-98C0-4F99-B972-35E0002A8B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A1AAD8-4CBB-4E1D-B471-7EC875348F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79BA74-FB1D-443B-9530-07D5E0F166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5B038D-9C5F-40D3-9F4F-E4A1A23412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70DE92-E4D2-4ACE-BF94-7AD39F3E5A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196EC5-9D90-4253-8CFE-F2E1ACD86D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FE24D-B211-406E-8507-B5578C752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3ADA27-F7A1-4CDC-B6AF-F0A050A3DA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789B40-60EB-4D86-8704-7B77A40EA5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148069-72FD-4759-9572-7A08FC26DC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552BA9-396E-4EE0-8DE3-4C6F98D2E5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77ED59-581B-465E-AD0D-211FF3A0C0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4AC6BF-A220-4FB7-86FC-AF71F96D36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B54B25-3594-4FE2-955D-69DA31B7B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C795A7-C9B2-4598-BAE4-C28A58F60A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D2392C-C801-4447-9174-8C8337F5D3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6A9DAB-9410-4398-9E50-12C955122D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C0A7F-1D98-4486-8420-65C820D0D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1BC777-12C4-475B-8CC2-FD17AC750D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BCA246-4C59-47C2-8611-EF1428627F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F771D0-701D-4618-B919-01A5AD67BD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EEA809-F360-4DB8-84A5-AE4FA76AEB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06DD9D-8082-49B4-88C8-F67D8AE635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53163A-8F07-4BA2-87A5-4F93D23022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29FA43-DBD7-4590-9421-3AB2F33B8A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B3D3B4-BB68-46DD-BAF8-D185E5B9CE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546339-E8F5-4AA1-82BC-7049391DD7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B211DE-82E2-4935-B5A4-738F68A412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8FA33-F9E9-4EF5-B278-A14DCBA11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7A287D-D09A-4E17-B713-51729EC21A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C80D10-03B6-4FAE-88A8-DDB126AA39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9E929D-007A-4E3F-A22F-DA3752C2EA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8D4D2B-8EED-4B49-A34A-5084D2BB24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39587F-2676-48FE-923D-5787C40EC3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F01573-9375-47C6-BC58-949D9F9F9C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AA5B50-4DD1-4259-A95E-733C0ED0AD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9763E6-36FB-46EA-A09B-A49D004AE4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2A1995-F1BD-48A5-B45A-441974F73A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20D2DA-29BC-4DD5-AEA3-E40F592E5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925F8-4393-4A75-B23A-E79E841A6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710902-C19E-4F74-883C-3BE79C6BB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EE89AD-261D-4F3E-AD51-EE1A075EC0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AE82CD-684B-4F9A-804D-8F302C8458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8240A7-1EB7-47B6-B97C-214CB79EA3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F9B981-7BA6-44C2-B133-E763EC267E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97CDD-3036-492E-A573-BE92A07C0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8737-BCBA-4EF9-AB4B-15F218F7901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5F29-FB64-4EA9-8CB2-43DB9B188C44}" type="slidenum">
              <a:rPr b="0" lang="es-ES" sz="1300" spc="-1" strike="noStrike">
                <a:solidFill>
                  <a:srgbClr val="ffffff"/>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4744-B11C-4AEF-8588-C3FA6F383B8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673B-E60D-489D-84EC-B9935A4C1AC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B84A-BD38-455A-B26E-176FF11C9AB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D167-970C-4335-9DFF-B2E2518ECEB3}" type="slidenum">
              <a:rPr b="0" lang="es-E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4254-2242-4E38-871D-E12F7510DEA6}" type="slidenum">
              <a:rPr b="0" lang="es-ES" sz="900" spc="-1" strike="noStrike">
                <a:solidFill>
                  <a:srgbClr val="fffff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youtube.com/watch?v=zHDrLxd9tK0" TargetMode="External"/><Relationship Id="rId3" Type="http://schemas.openxmlformats.org/officeDocument/2006/relationships/hyperlink" Target="http://www.youtube.com/watch?v=sA4cQoz3hOs" TargetMode="External"/><Relationship Id="rId4" Type="http://schemas.openxmlformats.org/officeDocument/2006/relationships/slideLayout" Target="../slideLayouts/slideLayout37.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1 CuadroTexto"/>
          <p:cNvSpPr/>
          <p:nvPr/>
        </p:nvSpPr>
        <p:spPr>
          <a:xfrm>
            <a:off x="790560" y="404640"/>
            <a:ext cx="7561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2c71ff"/>
                </a:solidFill>
                <a:latin typeface="Harlow Solid Italic"/>
              </a:rPr>
              <a:t>LA EUROPA FEUDAL</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5" descr="campesinos1"/>
          <p:cNvPicPr/>
          <p:nvPr/>
        </p:nvPicPr>
        <p:blipFill>
          <a:blip r:embed="rId1"/>
          <a:stretch/>
        </p:blipFill>
        <p:spPr>
          <a:xfrm>
            <a:off x="539640" y="907920"/>
            <a:ext cx="4469040" cy="2997360"/>
          </a:xfrm>
          <a:prstGeom prst="rect">
            <a:avLst/>
          </a:prstGeom>
          <a:ln w="0">
            <a:noFill/>
          </a:ln>
        </p:spPr>
      </p:pic>
      <p:pic>
        <p:nvPicPr>
          <p:cNvPr id="310" name="Picture 7" descr="ANd9GcTBCs0FbKmlDZD2SGq4ZmAQUXnadcj3AKydgp3JV7dm_72bV-ST"/>
          <p:cNvPicPr/>
          <p:nvPr/>
        </p:nvPicPr>
        <p:blipFill>
          <a:blip r:embed="rId2"/>
          <a:stretch/>
        </p:blipFill>
        <p:spPr>
          <a:xfrm>
            <a:off x="539640" y="4437000"/>
            <a:ext cx="4392720" cy="2149560"/>
          </a:xfrm>
          <a:prstGeom prst="rect">
            <a:avLst/>
          </a:prstGeom>
          <a:ln w="0">
            <a:noFill/>
          </a:ln>
        </p:spPr>
      </p:pic>
      <p:pic>
        <p:nvPicPr>
          <p:cNvPr id="311" name="Picture 9" descr="edad_media_campesino"/>
          <p:cNvPicPr/>
          <p:nvPr/>
        </p:nvPicPr>
        <p:blipFill>
          <a:blip r:embed="rId3"/>
          <a:stretch/>
        </p:blipFill>
        <p:spPr>
          <a:xfrm>
            <a:off x="5564160" y="1566720"/>
            <a:ext cx="3133800" cy="5021280"/>
          </a:xfrm>
          <a:prstGeom prst="rect">
            <a:avLst/>
          </a:prstGeom>
          <a:ln w="0">
            <a:noFill/>
          </a:ln>
        </p:spPr>
      </p:pic>
      <p:sp>
        <p:nvSpPr>
          <p:cNvPr id="312" name="1 CuadroTexto"/>
          <p:cNvSpPr/>
          <p:nvPr/>
        </p:nvSpPr>
        <p:spPr>
          <a:xfrm>
            <a:off x="684360" y="1197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1</a:t>
            </a:r>
            <a:endParaRPr b="0" lang="en-US" sz="1800" spc="-1" strike="noStrike">
              <a:solidFill>
                <a:srgbClr val="ffffff"/>
              </a:solidFill>
              <a:latin typeface="Arial"/>
            </a:endParaRPr>
          </a:p>
        </p:txBody>
      </p:sp>
      <p:sp>
        <p:nvSpPr>
          <p:cNvPr id="313" name="2 CuadroTexto"/>
          <p:cNvSpPr/>
          <p:nvPr/>
        </p:nvSpPr>
        <p:spPr>
          <a:xfrm>
            <a:off x="5727600" y="177336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a:t>
            </a:r>
            <a:endParaRPr b="0" lang="en-US" sz="1800" spc="-1" strike="noStrike">
              <a:solidFill>
                <a:srgbClr val="ffffff"/>
              </a:solidFill>
              <a:latin typeface="Arial"/>
            </a:endParaRPr>
          </a:p>
        </p:txBody>
      </p:sp>
      <p:sp>
        <p:nvSpPr>
          <p:cNvPr id="314" name="6 CuadroTexto"/>
          <p:cNvSpPr/>
          <p:nvPr/>
        </p:nvSpPr>
        <p:spPr>
          <a:xfrm>
            <a:off x="1332000" y="46530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5" descr="Ordem+e+alegria+medieval%252C+Gloria+da+Idade+Media"/>
          <p:cNvPicPr/>
          <p:nvPr/>
        </p:nvPicPr>
        <p:blipFill>
          <a:blip r:embed="rId1"/>
          <a:stretch/>
        </p:blipFill>
        <p:spPr>
          <a:xfrm>
            <a:off x="341280" y="520560"/>
            <a:ext cx="8424720" cy="6337440"/>
          </a:xfrm>
          <a:prstGeom prst="rect">
            <a:avLst/>
          </a:prstGeom>
          <a:ln w="0">
            <a:noFill/>
          </a:ln>
        </p:spPr>
      </p:pic>
      <p:sp>
        <p:nvSpPr>
          <p:cNvPr id="316" name="2 CuadroTexto"/>
          <p:cNvSpPr/>
          <p:nvPr/>
        </p:nvSpPr>
        <p:spPr>
          <a:xfrm>
            <a:off x="684360" y="83664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3 Título" descr=""/>
          <p:cNvPicPr/>
          <p:nvPr/>
        </p:nvPicPr>
        <p:blipFill>
          <a:blip r:embed="rId1"/>
          <a:stretch/>
        </p:blipFill>
        <p:spPr>
          <a:xfrm>
            <a:off x="384120" y="274680"/>
            <a:ext cx="42840" cy="1066680"/>
          </a:xfrm>
          <a:prstGeom prst="rect">
            <a:avLst/>
          </a:prstGeom>
          <a:ln w="0">
            <a:noFill/>
          </a:ln>
        </p:spPr>
      </p:pic>
      <p:sp>
        <p:nvSpPr>
          <p:cNvPr id="318" name="PlaceHolder 1"/>
          <p:cNvSpPr>
            <a:spLocks noGrp="1"/>
          </p:cNvSpPr>
          <p:nvPr>
            <p:ph/>
          </p:nvPr>
        </p:nvSpPr>
        <p:spPr>
          <a:xfrm>
            <a:off x="179280" y="0"/>
            <a:ext cx="8640720" cy="6858000"/>
          </a:xfrm>
          <a:prstGeom prst="rect">
            <a:avLst/>
          </a:prstGeom>
          <a:noFill/>
          <a:ln w="0">
            <a:noFill/>
          </a:ln>
        </p:spPr>
        <p:txBody>
          <a:bodyPr anchor="t">
            <a:normAutofit/>
          </a:bodyPr>
          <a:p>
            <a:pPr marL="54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54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1. Se puede apreciar una hoguera, con una familia rodeándola. También se ve al ganado. Creemos que es una cabaña, porque esta echa madera, también se ve que el techo esta echo de paja. Creemos que el ganado esta dentro de la casa porque calientan. Esta una familia entera seguramente porque en esa época no tenían mucho dinero.</a:t>
            </a:r>
            <a:endParaRPr b="0" lang="en-US" sz="2600" spc="-1" strike="noStrike">
              <a:solidFill>
                <a:srgbClr val="ffffff"/>
              </a:solidFill>
              <a:latin typeface="Century Gothic"/>
            </a:endParaRPr>
          </a:p>
          <a:p>
            <a:pPr marL="54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2. Se puede apreciar en la segunda imagen que hay un arado muy primitivo, el arado es una forma de cultivar las semillas más fácilmente del arado tira dos caballos pero normalmente suele tirar un par de mulas</a:t>
            </a:r>
            <a:r>
              <a:rPr b="0" lang="es-ES" sz="2800" spc="-1" strike="noStrike">
                <a:solidFill>
                  <a:srgbClr val="ffffff"/>
                </a:solidFill>
                <a:latin typeface="Century Gothic"/>
              </a:rPr>
              <a:t>. </a:t>
            </a:r>
            <a:endParaRPr b="0" lang="en-US" sz="2800" spc="-1" strike="noStrike">
              <a:solidFill>
                <a:srgbClr val="ffffff"/>
              </a:solidFill>
              <a:latin typeface="Century Gothic"/>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1 Título" descr=""/>
          <p:cNvPicPr/>
          <p:nvPr/>
        </p:nvPicPr>
        <p:blipFill>
          <a:blip r:embed="rId1"/>
          <a:stretch/>
        </p:blipFill>
        <p:spPr>
          <a:xfrm>
            <a:off x="384120" y="274680"/>
            <a:ext cx="42840" cy="127080"/>
          </a:xfrm>
          <a:prstGeom prst="rect">
            <a:avLst/>
          </a:prstGeom>
          <a:ln w="0">
            <a:noFill/>
          </a:ln>
        </p:spPr>
      </p:pic>
      <p:sp>
        <p:nvSpPr>
          <p:cNvPr id="320" name="PlaceHolder 1"/>
          <p:cNvSpPr>
            <a:spLocks noGrp="1"/>
          </p:cNvSpPr>
          <p:nvPr>
            <p:ph/>
          </p:nvPr>
        </p:nvSpPr>
        <p:spPr>
          <a:xfrm>
            <a:off x="468000" y="189000"/>
            <a:ext cx="8064360" cy="5976720"/>
          </a:xfrm>
          <a:prstGeom prst="rect">
            <a:avLst/>
          </a:prstGeom>
          <a:noFill/>
          <a:ln w="0">
            <a:noFill/>
          </a:ln>
        </p:spPr>
        <p:txBody>
          <a:bodyPr anchor="t">
            <a:normAutofit fontScale="97000"/>
          </a:bodyPr>
          <a:p>
            <a:pPr marL="5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3. En la imagen se puede apreciar un campesino de la baja edad media con una herramienta para el arado. Se ve que vive de forma pobre por sus ropas harapientas.</a:t>
            </a:r>
            <a:endParaRPr b="0" lang="en-US" sz="2800" spc="-1" strike="noStrike">
              <a:solidFill>
                <a:srgbClr val="ffffff"/>
              </a:solidFill>
              <a:latin typeface="Century Gothic"/>
            </a:endParaRPr>
          </a:p>
          <a:p>
            <a:pPr marL="5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Puede ser de dos tipos de campesinos : Villanos (Campesinos libres que no tienen dueño y si tienen pocos derechos) y esclavos(No tienen derechos y tienen un dueño)</a:t>
            </a:r>
            <a:endParaRPr b="0" lang="en-US" sz="2800" spc="-1" strike="noStrike">
              <a:solidFill>
                <a:srgbClr val="ffffff"/>
              </a:solidFill>
              <a:latin typeface="Century Gothic"/>
            </a:endParaRPr>
          </a:p>
          <a:p>
            <a:pPr marL="5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4.Están coronando al príncipe que será rey después de esta ceremonia. Le están coronando dos obispos. Era la baja edad media porque el rey era una figura importante y todo el pueblo estaba presente.</a:t>
            </a:r>
            <a:endParaRPr b="0" lang="en-US" sz="2800" spc="-1" strike="noStrike">
              <a:solidFill>
                <a:srgbClr val="ffffff"/>
              </a:solidFill>
              <a:latin typeface="Century Gothic"/>
            </a:endParaRPr>
          </a:p>
          <a:p>
            <a:pPr marL="5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1 Título" descr=""/>
          <p:cNvPicPr/>
          <p:nvPr/>
        </p:nvPicPr>
        <p:blipFill>
          <a:blip r:embed="rId1"/>
          <a:stretch/>
        </p:blipFill>
        <p:spPr>
          <a:xfrm>
            <a:off x="171360" y="274680"/>
            <a:ext cx="7448760" cy="1359000"/>
          </a:xfrm>
          <a:prstGeom prst="rect">
            <a:avLst/>
          </a:prstGeom>
          <a:ln w="0">
            <a:noFill/>
          </a:ln>
        </p:spPr>
      </p:pic>
      <p:sp>
        <p:nvSpPr>
          <p:cNvPr id="322" name="PlaceHolder 1"/>
          <p:cNvSpPr>
            <a:spLocks noGrp="1"/>
          </p:cNvSpPr>
          <p:nvPr>
            <p:ph/>
          </p:nvPr>
        </p:nvSpPr>
        <p:spPr>
          <a:xfrm>
            <a:off x="380520" y="1633680"/>
            <a:ext cx="8512200" cy="2286000"/>
          </a:xfrm>
          <a:prstGeom prst="rect">
            <a:avLst/>
          </a:prstGeom>
          <a:noFill/>
          <a:ln w="0">
            <a:noFill/>
          </a:ln>
        </p:spPr>
        <p:txBody>
          <a:bodyPr anchor="t">
            <a:normAutofit/>
          </a:bodyPr>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17bbfd"/>
                </a:solidFill>
                <a:uFillTx/>
                <a:latin typeface="Century Gothic"/>
                <a:hlinkClick r:id="rId2"/>
              </a:rPr>
              <a:t>Invento del Arado.</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17bbfd"/>
                </a:solidFill>
                <a:uFillTx/>
                <a:latin typeface="Century Gothic"/>
                <a:hlinkClick r:id="rId3"/>
              </a:rPr>
              <a:t>Baja Edad Media</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1 Título" descr=""/>
          <p:cNvPicPr/>
          <p:nvPr/>
        </p:nvPicPr>
        <p:blipFill>
          <a:blip r:embed="rId1"/>
          <a:stretch/>
        </p:blipFill>
        <p:spPr>
          <a:xfrm>
            <a:off x="2494080" y="262080"/>
            <a:ext cx="3376440" cy="1358640"/>
          </a:xfrm>
          <a:prstGeom prst="rect">
            <a:avLst/>
          </a:prstGeom>
          <a:ln w="0">
            <a:noFill/>
          </a:ln>
        </p:spPr>
      </p:pic>
      <p:sp>
        <p:nvSpPr>
          <p:cNvPr id="324" name="PlaceHolder 1"/>
          <p:cNvSpPr>
            <a:spLocks noGrp="1"/>
          </p:cNvSpPr>
          <p:nvPr>
            <p:ph/>
          </p:nvPr>
        </p:nvSpPr>
        <p:spPr>
          <a:xfrm>
            <a:off x="380880" y="1633680"/>
            <a:ext cx="8439120" cy="4819680"/>
          </a:xfrm>
          <a:prstGeom prst="rect">
            <a:avLst/>
          </a:prstGeom>
          <a:noFill/>
          <a:ln w="0">
            <a:noFill/>
          </a:ln>
        </p:spPr>
        <p:txBody>
          <a:bodyPr anchor="t">
            <a:normAutofit/>
          </a:bodyPr>
          <a:p>
            <a:pPr marL="54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Harlow Solid Italic"/>
              </a:rPr>
              <a:t>Markel Odriozola.</a:t>
            </a:r>
            <a:endParaRPr b="0" lang="en-US" sz="4800" spc="-1" strike="noStrike">
              <a:solidFill>
                <a:srgbClr val="ffffff"/>
              </a:solidFill>
              <a:latin typeface="Century Gothic"/>
            </a:endParaRPr>
          </a:p>
          <a:p>
            <a:pPr marL="54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Harlow Solid Italic"/>
              </a:rPr>
              <a:t>Miguel Ángel M. Gutiérrez.</a:t>
            </a:r>
            <a:endParaRPr b="0" lang="en-US" sz="4800" spc="-1" strike="noStrike">
              <a:solidFill>
                <a:srgbClr val="ffffff"/>
              </a:solidFill>
              <a:latin typeface="Century Gothic"/>
            </a:endParaRPr>
          </a:p>
          <a:p>
            <a:pPr marL="54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Harlow Solid Italic"/>
              </a:rPr>
              <a:t>Darío S. Zabala.</a:t>
            </a:r>
            <a:endParaRPr b="0" lang="en-US" sz="4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5T08:35:44Z</dcterms:created>
  <dc:creator>IR015252AG</dc:creator>
  <dc:description/>
  <dc:language>en-US</dc:language>
  <cp:lastModifiedBy>Artaza Romo Ikaslea</cp:lastModifiedBy>
  <dcterms:modified xsi:type="dcterms:W3CDTF">2014-02-24T13:38:02Z</dcterms:modified>
  <cp:revision>14</cp:revision>
  <dc:subject/>
  <dc:title>Diapositiva 1</dc:title>
</cp:coreProperties>
</file>